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985678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8568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2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1185-5EBE-4EB5-9278-C6A875BCEB00}" type="datetime">
              <a:rPr b="1" lang="pl-PL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3244320" y="5065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985680" y="3200400"/>
            <a:ext cx="7885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3"/>
          </p:nvPr>
        </p:nvSpPr>
        <p:spPr>
          <a:xfrm>
            <a:off x="-360" y="6397200"/>
            <a:ext cx="4272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24"/>
          </p:nvPr>
        </p:nvSpPr>
        <p:spPr>
          <a:xfrm>
            <a:off x="5584320" y="639720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701-4AF7-47FD-A46A-26DD11E987CE}" type="slidenum">
              <a:rPr b="1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24468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85680" y="3200400"/>
            <a:ext cx="7885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da – angielski i polski – powit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jtek – SMS powital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5584680" y="639756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7DFF-E11A-4504-8F91-ABE58FC17F3F}" type="slidenum">
              <a:rPr b="1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584680" y="639756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6DE3-A53E-48D8-8B17-092219A7DFB1}" type="slidenum">
              <a:rPr b="1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68880" cy="2525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11120" y="3200400"/>
            <a:ext cx="7234560" cy="30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584680" y="639756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940-074E-42AC-AA4A-AEFB35367A40}" type="slidenum">
              <a:rPr b="1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68880" cy="2525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311120" y="3200400"/>
            <a:ext cx="7234560" cy="30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FB4-A01B-426F-87FF-D20B09E1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BF2-C35E-4B5C-95FD-6E51222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2D1-58D7-492E-BCEB-C6EF04FB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C86-1052-4BFC-B639-0A6717C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7F6-D399-492B-9928-3CAEB11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6CB-7151-4AE1-888B-2D0C50C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660-7E49-4773-952F-3BFD4206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F95-20F0-49DA-8C09-4F7214E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475-5DA9-4F9E-B4C2-6525C1E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0A5-AA91-4374-A6B6-D97A918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2A2-72AD-4E34-A414-46EF032C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BB8-5A18-4BCA-BB25-C4EC38E5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4746-DE81-4682-BA4D-B99D6B14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DC64-F814-4275-9539-B05917D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7878-50C3-4157-AAAC-085EAB2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4228-0425-4BB3-AC6B-AFEEE7A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E812-5016-49E4-9E94-8C7319A7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3768-646C-484A-8DC2-CB1DAD99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4B4-D1BE-4B80-8EA8-60FD42E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BA7-0BBF-4D82-9D42-18A9AD8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0E4-4D8F-4E0B-83EA-7C0ED73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0B3A-1C83-4123-AAB7-7C3B7835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8AB-AAD7-4D21-B673-14E95B0E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88E-C40C-4B4F-B430-092D021E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AF45-6BBB-4AF6-A7BC-70CDCBC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DA64-E301-4BA4-AD25-AFBAC94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FF62-4680-43FD-A53C-FADE4F1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CFED-EF5B-4051-929B-1D1A178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8C57-8F0E-4030-A007-593422C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3637-21D3-4425-BB1B-EAECF53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A38F-914F-42F0-BBED-8C9D4FC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1B4F-B112-4C4D-9C45-68143311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3A78-93BB-40F4-B211-0201910B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D089-1AA9-4635-ADA1-F24D6797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FC22-8DC9-413A-A49D-FE5237B2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D64B-D4EF-446F-8B85-036CB534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1598-D07F-418E-8F61-06A05E4B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4DB4-EADF-4D75-8A18-F5DA6B2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B7243-9DA7-4AAF-897C-BF487E1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B4BA-53EB-4B6C-B3F1-E855E83F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D36C-9472-4FCB-8E68-02A7B603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C7B8-21D4-407D-ABE9-A03FEAEC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41B9-DFFD-453D-8418-3668B06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D84F-278E-427F-9C64-07B0C3B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DD25-F92C-4E22-A8A1-0E4B694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2FF5-EEDB-4B52-859D-5F73F719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69AB-536F-47A2-86D0-536ABE85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967A-7CD1-4A7F-A062-427270D0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286B-4A2C-4D8D-9C94-354BBDC7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BE97A-4E3B-4DCE-8E69-C74D12C9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5179E-60E0-494C-90E2-D6665D5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4BD1-76D2-4EFC-A09D-804CC2B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CCFD5-1603-4B48-B6D1-3FF5D4D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F0A6-3EA7-42AC-9E66-1B244FB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43DA-2C43-4C9D-8CC9-1F2F159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3149-3A1E-4DBD-8C90-E423E10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F38C-DE23-452B-9DF9-D0A343C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FCC7-4B6E-46DF-8724-EC7824B5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46C5-23A6-4951-AA3B-3FEBC448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6BECD-B008-4C69-840E-33DA35E8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CF0A2-5104-431F-9F7D-51C473DC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AADF-2256-426C-8FA6-6C4F2FD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AB442-6987-4EDA-A6B0-28E0EBB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69E6-8A09-4F63-8C83-A5C81AC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DAB4-54E4-4D91-A55B-88FB20D0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16D07-5D6D-4CD6-86A3-3603D6E7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638F-8FB6-42BB-91E6-2AA1DFF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85E9-B3C7-4913-8E95-94AB753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F902-BE92-4790-A452-56B2988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4A81-7E2A-4EEA-8A3A-A4C03D1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8DBD-9B3A-4170-9DDD-BFF90465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6FCBC-3CAC-4982-9DC8-C3543E9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F7F5-4EF5-4ED1-B8F3-29DD280C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55C6-7FF1-48DF-8802-806D6D8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264CC-D2BB-4DD6-8624-C50FD00F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1FE6-0612-470B-A6B6-FF2347A8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AB4C-5427-43CE-A53E-5245AEB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A1B6-7590-467A-BF45-E4BE2FB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4F810-9389-40E7-B541-BDBED6D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D220A-2AEE-4BFC-A8A7-C8CC087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EA57-5CF0-4397-823A-B8E629B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404D-CCA8-4238-9E1A-3045279F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A83D-C9B2-423E-85DC-658F745E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8AAD-176B-4E55-81A3-D4D00B00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nd/3.0/pl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hyperlink" Target="http://creativecommons.org/licenses/by-nc-nd/3.0/pl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nd/3.0/pl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hyperlink" Target="http://creativecommons.org/licenses/by-nc-nd/3.0/pl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nd/3.0/pl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hyperlink" Target="http://creativecommons.org/licenses/by-nc-nd/3.0/pl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nd/3.0/pl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hyperlink" Target="http://creativecommons.org/licenses/by-nc-nd/3.0/pl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nd/3.0/pl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PLAYPRINT.jpg"/>
          <p:cNvPicPr/>
          <p:nvPr/>
        </p:nvPicPr>
        <p:blipFill>
          <a:blip r:embed="rId5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7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LOGO PLAYPRINT.jpg"/>
          <p:cNvPicPr/>
          <p:nvPr/>
        </p:nvPicPr>
        <p:blipFill>
          <a:blip r:embed="rId5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2AA-67A8-47F4-8E48-12FB1D6A25F4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85A4-A96E-47BC-95A3-A874A47391E0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LOGO PLAYPRINT.jpg"/>
          <p:cNvPicPr/>
          <p:nvPr/>
        </p:nvPicPr>
        <p:blipFill>
          <a:blip r:embed="rId5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CCB-0E7A-4B18-ADC2-F91CDBD2C472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1B7-2E60-4DA2-BB22-6F6BA96223D4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LOGO PLAYPRINT.jpg"/>
          <p:cNvPicPr/>
          <p:nvPr/>
        </p:nvPicPr>
        <p:blipFill>
          <a:blip r:embed="rId5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E3C-4DCF-48D9-AC28-A587BD98F923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017F-D24A-45D3-AD54-B43D371E931C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LOGO PLAYPRINT.jpg"/>
          <p:cNvPicPr/>
          <p:nvPr/>
        </p:nvPicPr>
        <p:blipFill>
          <a:blip r:embed="rId5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6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8E8-741F-40F5-AE00-F598F1BC391E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B5C-981F-428C-9C7D-6ACADE769FAB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235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LOGO PLAYPRINT.jpg"/>
          <p:cNvPicPr/>
          <p:nvPr/>
        </p:nvPicPr>
        <p:blipFill>
          <a:blip r:embed="rId4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5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7F2B-F9AD-4EF2-B742-FDD9D8603F47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FECD-06DF-4E0F-A47E-9F2C0F1CDED5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282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LOGO PLAYPRINT.jpg"/>
          <p:cNvPicPr/>
          <p:nvPr/>
        </p:nvPicPr>
        <p:blipFill>
          <a:blip r:embed="rId4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5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89E0-ADD1-4EF5-9E2E-E7AA0DEC42F8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7A0-6ED7-421F-8E62-A890CD803346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Playprint logo 1COL-1.jpg"/>
          <p:cNvPicPr/>
          <p:nvPr/>
        </p:nvPicPr>
        <p:blipFill>
          <a:blip r:embed="rId2"/>
          <a:stretch/>
        </p:blipFill>
        <p:spPr>
          <a:xfrm>
            <a:off x="228600" y="403200"/>
            <a:ext cx="1523880" cy="8920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395280" y="6478560"/>
            <a:ext cx="828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w Cen MT"/>
              </a:rPr>
              <a:t>Copyright Playprint Polska Sp. z o.o. / www.playprint.pl / Ekspert Gier Promocyjnych / playprint@playprint.p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3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329" name="Straight Connector 10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LOGO PLAYPRINT.jpg"/>
          <p:cNvPicPr/>
          <p:nvPr/>
        </p:nvPicPr>
        <p:blipFill>
          <a:blip r:embed="rId4"/>
          <a:stretch/>
        </p:blipFill>
        <p:spPr>
          <a:xfrm>
            <a:off x="228600" y="4032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5"/>
          <a:stretch/>
        </p:blipFill>
        <p:spPr>
          <a:xfrm>
            <a:off x="8018640" y="6505560"/>
            <a:ext cx="625320" cy="2206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1E9-F1B2-4D5F-B946-1C168DE8492A}" type="datetime">
              <a:rPr b="1" lang="pl-PL" sz="18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D902-1B77-4D33-AA11-A7584DC074D6}" type="slidenum">
              <a:rPr b="1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595959"/>
                </a:solidFill>
                <a:latin typeface="Calibri"/>
              </a:rPr>
              <a:t>PODSUMOWANIE AKTYWNOŚCI</a:t>
            </a:r>
            <a:br>
              <a:rPr sz="4000"/>
            </a:b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MINOLOTTO 2010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… </a:t>
            </a: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I NIETYPOWYCH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557280" y="1430280"/>
            <a:ext cx="8464320" cy="3245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1744560" y="3286080"/>
            <a:ext cx="6973920" cy="2685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3"/>
          <a:stretch/>
        </p:blipFill>
        <p:spPr>
          <a:xfrm>
            <a:off x="963720" y="3355920"/>
            <a:ext cx="4368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Niektórzy proponowali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wygórowaną cenę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457440" y="954000"/>
            <a:ext cx="5343840" cy="2905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6"/>
          <p:cNvSpPr/>
          <p:nvPr/>
        </p:nvSpPr>
        <p:spPr>
          <a:xfrm>
            <a:off x="492120" y="3886200"/>
            <a:ext cx="2717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w Cen MT"/>
              </a:rPr>
              <a:t>Inni chcieli się dzielić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w Cen MT"/>
              </a:rPr>
              <a:t>pół na pó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2"/>
          <a:stretch/>
        </p:blipFill>
        <p:spPr>
          <a:xfrm>
            <a:off x="2725560" y="1365120"/>
            <a:ext cx="6212160" cy="5000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"/>
          <p:cNvPicPr/>
          <p:nvPr/>
        </p:nvPicPr>
        <p:blipFill>
          <a:blip r:embed="rId3"/>
          <a:stretch/>
        </p:blipFill>
        <p:spPr>
          <a:xfrm>
            <a:off x="1427040" y="2392200"/>
            <a:ext cx="49467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SASZETKI PRÓBOWANO SPRZEDAWAĆ </a:t>
            </a:r>
            <a:br>
              <a:rPr sz="3600"/>
            </a:b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I WYMIENIAĆ NA RÓŻNE SPOSOBY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790560" y="1849320"/>
            <a:ext cx="4745160" cy="3514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2"/>
          <a:stretch/>
        </p:blipFill>
        <p:spPr>
          <a:xfrm>
            <a:off x="2441520" y="4195800"/>
            <a:ext cx="6051600" cy="183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3"/>
          <a:stretch/>
        </p:blipFill>
        <p:spPr>
          <a:xfrm>
            <a:off x="3683160" y="1854360"/>
            <a:ext cx="496080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6"/>
          <p:cNvSpPr/>
          <p:nvPr/>
        </p:nvSpPr>
        <p:spPr>
          <a:xfrm>
            <a:off x="2120760" y="1936800"/>
            <a:ext cx="69487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Tw Cen MT"/>
              </a:rPr>
              <a:t>Kompleksow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Tw Cen MT"/>
              </a:rPr>
              <a:t>Bezpieczn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Tw Cen MT"/>
              </a:rPr>
              <a:t>Odpowiedzialn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7f7f7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2195640" y="2473200"/>
            <a:ext cx="6948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w Cen MT"/>
                <a:ea typeface="Arial"/>
              </a:rPr>
              <a:t>Mechanizm Gry - koncepcj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w Cen MT"/>
                <a:ea typeface="Arial"/>
              </a:rPr>
              <a:t>Losy, Kupony, Karty – produkcj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w Cen MT"/>
                <a:ea typeface="Arial"/>
              </a:rPr>
              <a:t>Logistyka (dystrybucja losów, wydanie nagró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2195640" y="3630600"/>
            <a:ext cx="6948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f7f7f"/>
                </a:solidFill>
                <a:latin typeface="Tw Cen MT"/>
                <a:ea typeface="Arial"/>
              </a:rPr>
              <a:t>Produkcja – ISO 9002, Audyt </a:t>
            </a:r>
            <a:r>
              <a:rPr b="1" lang="en-US" sz="1400" spc="-1" strike="noStrike">
                <a:solidFill>
                  <a:srgbClr val="7f7f7f"/>
                </a:solidFill>
                <a:latin typeface="Tw Cen MT"/>
                <a:ea typeface="Arial"/>
              </a:rPr>
              <a:t>Deloitte &amp; Tou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f7f7f"/>
                </a:solidFill>
                <a:latin typeface="Tw Cen MT"/>
                <a:ea typeface="Arial"/>
              </a:rPr>
              <a:t>Informacja – Microsoft, Vodafone, Or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f7f7f"/>
                </a:solidFill>
                <a:latin typeface="Tw Cen MT"/>
                <a:ea typeface="Arial"/>
              </a:rPr>
              <a:t>Zgodność z regulaminem g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195640" y="4883040"/>
            <a:ext cx="69483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f7f7f"/>
                </a:solidFill>
                <a:latin typeface="Tw Cen MT"/>
                <a:ea typeface="Arial"/>
              </a:rPr>
              <a:t>Ubezpieczenie wyniku gry – polisa Lloyd’s 1.250.000 eur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876"/>
              </a:spcBef>
              <a:buClr>
                <a:srgbClr val="7f7f7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f7f7f"/>
                </a:solidFill>
                <a:latin typeface="Tw Cen MT"/>
                <a:ea typeface="Arial"/>
              </a:rPr>
              <a:t>Jednoznaczna odpowiedzialność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8" descr="sprite zero"/>
          <p:cNvPicPr/>
          <p:nvPr/>
        </p:nvPicPr>
        <p:blipFill>
          <a:blip r:embed="rId1"/>
          <a:stretch/>
        </p:blipFill>
        <p:spPr>
          <a:xfrm>
            <a:off x="304920" y="1593720"/>
            <a:ext cx="1352520" cy="22989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2"/>
          <p:cNvSpPr/>
          <p:nvPr/>
        </p:nvSpPr>
        <p:spPr>
          <a:xfrm>
            <a:off x="2190600" y="674640"/>
            <a:ext cx="6185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f7f7f"/>
                </a:solidFill>
                <a:latin typeface="Tw Cen MT"/>
              </a:rPr>
              <a:t>Playprint </a:t>
            </a:r>
            <a:br>
              <a:rPr sz="2800"/>
            </a:br>
            <a:r>
              <a:rPr b="1" lang="pl-PL" sz="2800" spc="-1" strike="noStrike">
                <a:solidFill>
                  <a:srgbClr val="7f7f7f"/>
                </a:solidFill>
                <a:latin typeface="Tw Cen MT"/>
              </a:rPr>
              <a:t>Providing Winning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INNE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heel of Fortun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Bingo2B.com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52120" y="26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7f7f7f"/>
                </a:solidFill>
                <a:latin typeface="Calibri"/>
              </a:rPr>
              <a:t>COMPANY DETAILS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765080" y="157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7f7f7f"/>
                </a:solidFill>
                <a:uFillTx/>
                <a:latin typeface="Calibri"/>
              </a:rPr>
              <a:t>Head Of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Play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rint Ltd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80 St. Ignatius Road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Dublin 7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reland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 u="sng">
                <a:solidFill>
                  <a:srgbClr val="7f7f7f"/>
                </a:solidFill>
                <a:uFillTx/>
                <a:latin typeface="Calibri"/>
              </a:rPr>
              <a:t>Local Of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layPrint Polska Sp. z o.o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Ul.Floriańska 6/30d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03-707 Warszawa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olska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Tel:         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(22) 698 58 90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Fax:        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(22) 698 58 91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Email:     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layprint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@playprint.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l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nternet: www.playprint.</a:t>
            </a:r>
            <a:r>
              <a:rPr b="0" lang="pl-PL" sz="1400" spc="-1" strike="noStrike">
                <a:solidFill>
                  <a:srgbClr val="7f7f7f"/>
                </a:solidFill>
                <a:latin typeface="Calibri"/>
              </a:rPr>
              <a:t>pl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978080" y="1579680"/>
            <a:ext cx="416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7f7f7f"/>
                </a:solidFill>
                <a:uFillTx/>
                <a:latin typeface="Calibri"/>
              </a:rPr>
              <a:t>Auditors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Deloitte &amp; Touche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Deloitte &amp; Touche House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Earlsfort Terrace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Dublin 2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200" spc="-1" strike="noStrike" u="sng">
                <a:solidFill>
                  <a:srgbClr val="7f7f7f"/>
                </a:solidFill>
                <a:uFillTx/>
                <a:latin typeface="Calibri"/>
              </a:rPr>
              <a:t>Insurance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Lloyd’s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1.250.000 euro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120" y="26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7f7f7f"/>
                </a:solidFill>
                <a:latin typeface="Calibri"/>
              </a:rPr>
              <a:t>NOTA PRAWNA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45680" y="1244520"/>
            <a:ext cx="7302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500" spc="-1" strike="noStrike">
                <a:solidFill>
                  <a:srgbClr val="7f7f7f"/>
                </a:solidFill>
                <a:latin typeface="Calibri"/>
              </a:rPr>
              <a:t>Niniejszy dokument jest prezentacją gotowych utworów zwanych formatami promocyjnymi. Ze względu na ograniczoną objętość dokumentu prezentacja ma formę skróconą, a szczegółowe opisy tych utworów dostępne są w siedzibie Playprint.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500" spc="-1" strike="noStrike">
                <a:solidFill>
                  <a:srgbClr val="7f7f7f"/>
                </a:solidFill>
                <a:latin typeface="Calibri"/>
              </a:rPr>
              <a:t>Prawa autorskie materiałów graficznych oraz do nazw należą do ich właścicieli i autorów i zostały zamieszczone w niniejszej prezentacji w formie cytatu lub odnośnika do strony.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500" spc="-1" strike="noStrike">
                <a:solidFill>
                  <a:srgbClr val="7f7f7f"/>
                </a:solidFill>
                <a:latin typeface="Calibri"/>
              </a:rPr>
              <a:t>Niezależnie od zamieszczenia odpowiedniej informacji, lub jej braku, formaty promocyjne (w całości, a także ich części) prezentowane w niniejszym dokumencie należą do grupy firm Playprint. 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500" spc="-1" strike="noStrike">
                <a:solidFill>
                  <a:srgbClr val="7f7f7f"/>
                </a:solidFill>
                <a:latin typeface="Calibri"/>
              </a:rPr>
              <a:t>Formaty promocyjne Playprint są chronione poprzez odpowiednie przepisy dotyczące praw autorskich, prawa własności przemysłowej oraz patenty. 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500" spc="-1" strike="noStrike">
                <a:solidFill>
                  <a:srgbClr val="7f7f7f"/>
                </a:solidFill>
                <a:latin typeface="Calibri"/>
              </a:rPr>
              <a:t>Wykorzystywanie formatów promocyjnych (w całości lub ich części) bez zgody Playprint jest zabronione.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500" spc="-1" strike="noStrike">
                <a:solidFill>
                  <a:srgbClr val="7f7f7f"/>
                </a:solidFill>
                <a:latin typeface="Calibri"/>
              </a:rPr>
              <a:t>Playprint gwarantuje wyłączność branżową dla licencjobiorcy formatu promocyjnego. </a:t>
            </a:r>
            <a:endParaRPr b="0" lang="en-US" sz="15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UCZESTNICY O AUTORACH...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83" name="Picture 4" descr="Zrzut ekranu 2013-09-24 o 21.58.38.png"/>
          <p:cNvPicPr/>
          <p:nvPr/>
        </p:nvPicPr>
        <p:blipFill>
          <a:blip r:embed="rId1"/>
          <a:stretch/>
        </p:blipFill>
        <p:spPr>
          <a:xfrm>
            <a:off x="46080" y="2352600"/>
            <a:ext cx="9144000" cy="184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Zrzut ekranu 2013-09-24 o 21.55.02.png"/>
          <p:cNvPicPr/>
          <p:nvPr/>
        </p:nvPicPr>
        <p:blipFill>
          <a:blip r:embed="rId2"/>
          <a:stretch/>
        </p:blipFill>
        <p:spPr>
          <a:xfrm>
            <a:off x="0" y="4959360"/>
            <a:ext cx="9144000" cy="550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Zrzut ekranu 2013-09-24 o 21.54.46.png"/>
          <p:cNvPicPr/>
          <p:nvPr/>
        </p:nvPicPr>
        <p:blipFill>
          <a:blip r:embed="rId3"/>
          <a:stretch/>
        </p:blipFill>
        <p:spPr>
          <a:xfrm>
            <a:off x="0" y="162720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Zrzut ekranu 2013-09-24 o 22.02.04.png"/>
          <p:cNvPicPr/>
          <p:nvPr/>
        </p:nvPicPr>
        <p:blipFill>
          <a:blip r:embed="rId4"/>
          <a:stretch/>
        </p:blipFill>
        <p:spPr>
          <a:xfrm>
            <a:off x="61920" y="4084560"/>
            <a:ext cx="9144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NA FORUM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415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minolotto  2010 gości na  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176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 stronach  grup dyskusyjnych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682560" y="232236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fora"/>
          <p:cNvPicPr/>
          <p:nvPr/>
        </p:nvPicPr>
        <p:blipFill>
          <a:blip r:embed="rId1"/>
          <a:stretch/>
        </p:blipFill>
        <p:spPr>
          <a:xfrm>
            <a:off x="766800" y="2149560"/>
            <a:ext cx="7305480" cy="37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PROMOCJA SIĘ ROZWIJA 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8840" y="1600200"/>
            <a:ext cx="849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7f7f7f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w Cen MT"/>
              </a:rPr>
              <a:t>Po miesiącu trwania promocji wpisując w wyszukiwarkę „AMINOLOTTO 2010” uzyskujemy ok.1800  wyników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7f7f7f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7f7f7f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93" name="Picture 8" descr="google"/>
          <p:cNvPicPr/>
          <p:nvPr/>
        </p:nvPicPr>
        <p:blipFill>
          <a:blip r:embed="rId1"/>
          <a:stretch/>
        </p:blipFill>
        <p:spPr>
          <a:xfrm>
            <a:off x="2279520" y="2487600"/>
            <a:ext cx="6877080" cy="3825720"/>
          </a:xfrm>
          <a:prstGeom prst="rect">
            <a:avLst/>
          </a:prstGeom>
          <a:ln w="0">
            <a:noFill/>
          </a:ln>
        </p:spPr>
      </p:pic>
      <p:pic>
        <p:nvPicPr>
          <p:cNvPr id="394" name="Grupa 8" descr=""/>
          <p:cNvPicPr/>
          <p:nvPr/>
        </p:nvPicPr>
        <p:blipFill>
          <a:blip r:embed="rId2"/>
          <a:stretch/>
        </p:blipFill>
        <p:spPr>
          <a:xfrm>
            <a:off x="5041800" y="2975040"/>
            <a:ext cx="1200240" cy="76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84080" y="-36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SPRZEDAM, KUPIĘ, WYMIENIĘ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96" name="Picture 9" descr="sprzedam saszetki"/>
          <p:cNvPicPr/>
          <p:nvPr/>
        </p:nvPicPr>
        <p:blipFill>
          <a:blip r:embed="rId1"/>
          <a:stretch/>
        </p:blipFill>
        <p:spPr>
          <a:xfrm>
            <a:off x="414360" y="1333440"/>
            <a:ext cx="5079960" cy="4900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allegro"/>
          <p:cNvPicPr/>
          <p:nvPr/>
        </p:nvPicPr>
        <p:blipFill>
          <a:blip r:embed="rId2"/>
          <a:stretch/>
        </p:blipFill>
        <p:spPr>
          <a:xfrm>
            <a:off x="2913120" y="2216160"/>
            <a:ext cx="5065560" cy="37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INSPIRUJEMY....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99" name="Picture 4" descr="amino kalkulator"/>
          <p:cNvPicPr/>
          <p:nvPr/>
        </p:nvPicPr>
        <p:blipFill>
          <a:blip r:embed="rId1"/>
          <a:stretch/>
        </p:blipFill>
        <p:spPr>
          <a:xfrm>
            <a:off x="1538280" y="1273320"/>
            <a:ext cx="7297920" cy="198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kalulator am"/>
          <p:cNvPicPr/>
          <p:nvPr/>
        </p:nvPicPr>
        <p:blipFill>
          <a:blip r:embed="rId2"/>
          <a:stretch/>
        </p:blipFill>
        <p:spPr>
          <a:xfrm>
            <a:off x="1521000" y="3335400"/>
            <a:ext cx="73231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SERWIS TRANSAKCYJNY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tworzono specjalny serwis alotto.destinier.com zrzeszający graczy Aminolotto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428760" y="2209680"/>
            <a:ext cx="83152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KOLEJNA ODSŁONA KALKULATORA ORAZ FILMY INSTRUKTAŻOWE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05" name="Picture 6" descr="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3714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0" y="1554120"/>
            <a:ext cx="5697360" cy="464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0" y="1612800"/>
            <a:ext cx="57546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AMINO POJAWIŁO SIĘ TAKŻE </a:t>
            </a:r>
            <a:br>
              <a:rPr sz="3600"/>
            </a:br>
            <a:r>
              <a:rPr b="1" lang="pl-PL" sz="3600" spc="-1" strike="noStrike">
                <a:solidFill>
                  <a:srgbClr val="595959"/>
                </a:solidFill>
                <a:latin typeface="Calibri"/>
              </a:rPr>
              <a:t>W ZNANYCH MIEJSCACH…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1"/>
          <a:stretch/>
        </p:blipFill>
        <p:spPr>
          <a:xfrm>
            <a:off x="4113360" y="1314360"/>
            <a:ext cx="4587840" cy="3969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"/>
          <p:cNvPicPr/>
          <p:nvPr/>
        </p:nvPicPr>
        <p:blipFill>
          <a:blip r:embed="rId2"/>
          <a:stretch/>
        </p:blipFill>
        <p:spPr>
          <a:xfrm>
            <a:off x="336600" y="1581120"/>
            <a:ext cx="4309920" cy="46926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3733920" y="3892680"/>
            <a:ext cx="5410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9:30:47Z</dcterms:created>
  <dc:creator>Radek</dc:creator>
  <dc:description/>
  <dc:language>en-US</dc:language>
  <cp:lastModifiedBy>wojciech koczorowski</cp:lastModifiedBy>
  <dcterms:modified xsi:type="dcterms:W3CDTF">2013-09-24T20:20:22Z</dcterms:modified>
  <cp:revision>167</cp:revision>
  <dc:subject/>
  <dc:title>Slajd 1</dc:title>
</cp:coreProperties>
</file>